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B4B32-4F00-40E6-9A54-4212BEF56CD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0939A-0C3B-4EC5-AB5F-CECE28F9FD5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9157-048B-4046-A787-C95EDD5CF69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611A8-BBF7-4940-B139-CC35097AD56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1AC09-4535-4A51-B941-0FC61BF66D2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966BF-AD70-42C3-BA32-69CA2203D64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DBD29-CE26-4BEE-91F0-2E50B86A56D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ED64B-D812-4175-9C5A-1CA31F86580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20249-C69A-48C3-BFFF-EFDDB00F27C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5176C-09DC-4083-9210-00FA47879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8E06B-6771-4B71-9E68-0D7C2F8BB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45843-A079-4E2E-BDB1-43059B2848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DA2E6-9E17-4232-850C-7CC010BC3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B4C21E-CC3A-42BC-A4EF-C95DFAFC13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7DB59-C66F-4940-A6A5-120AF4A44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58E1B-8CE8-4681-AB50-82F2B9C20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FFCA1-896C-4FCB-91D9-2C413477A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263AA-B573-4A5F-AB15-4BDCF14AE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5B9BD-E4A6-4C14-9463-ABF55D828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6AD48-B5CE-4727-8364-66E9ED73B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79890-A249-4552-9C50-F65FABFB1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BDDDA-444C-4B75-86A1-8BDF0DBB6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143B78-3458-4639-9234-9B1526085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AE1A7-2523-4739-BAE3-89D4CE69E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01881A-1350-4C66-861E-E7CD9B7510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FC6E5A-2CE1-44BD-A69C-0482E8A7D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D5C5F-2568-4835-8E08-E699DEAA1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D22BA2-FA4C-4D76-966F-BB77ECD4B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1E965-1DA1-4DCC-AD6E-11B6E112E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F936B-84A7-459E-95A8-6CB7AEF58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0B7E3-4157-4D77-AC68-0581C0919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0A023-5332-4DA1-977F-C296BB154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00238-08D8-4D6B-BA94-64C40E5F89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97353-D3FE-46FE-956F-713B42014A41}"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700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700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6640"/>
            </a:xfrm>
            <a:prstGeom prst="ellipse">
              <a:avLst/>
            </a:prstGeom>
            <a:solidFill>
              <a:srgbClr val="330066"/>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7000" cy="116640"/>
            </a:xfrm>
            <a:prstGeom prst="ellipse">
              <a:avLst/>
            </a:prstGeom>
            <a:solidFill>
              <a:srgbClr val="669999"/>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700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700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700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700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6640"/>
            </a:xfrm>
            <a:prstGeom prst="ellipse">
              <a:avLst/>
            </a:prstGeom>
            <a:solidFill>
              <a:srgbClr val="cccc00"/>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7000" cy="116640"/>
            </a:xfrm>
            <a:prstGeom prst="ellipse">
              <a:avLst/>
            </a:prstGeom>
            <a:solidFill>
              <a:srgbClr val="d8d8ec"/>
            </a:solidFill>
            <a:ln w="0">
              <a:noFill/>
            </a:ln>
          </p:spPr>
          <p:style>
            <a:lnRef idx="0"/>
            <a:fillRef idx="0"/>
            <a:effectRef idx="0"/>
            <a:fontRef idx="minor"/>
          </p:style>
          <p:txBody>
            <a:bodyPr wrap="none"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700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4E4AC-6436-48AF-8BFA-734CCAC07AA7}"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a:solidFill>
                  <a:srgbClr val="330066"/>
                </a:solidFill>
                <a:latin typeface="Arial"/>
              </a:rPr>
              <a:t>Survivorship Curves</a:t>
            </a:r>
            <a:endParaRPr b="1" lang="en-US" sz="4800" spc="-1" strike="noStrike">
              <a:solidFill>
                <a:srgbClr val="330066"/>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Application: The Cemetery Lab</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St. James Cemetery, Toronto 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raph your data= Survivorship curve</a:t>
            </a:r>
            <a:endParaRPr b="1" lang="en-US" sz="3900" spc="-1" strike="noStrike">
              <a:solidFill>
                <a:srgbClr val="330066"/>
              </a:solidFill>
              <a:latin typeface="Arial"/>
            </a:endParaRPr>
          </a:p>
        </p:txBody>
      </p:sp>
      <p:pic>
        <p:nvPicPr>
          <p:cNvPr id="176" name="Picture 3" descr=""/>
          <p:cNvPicPr/>
          <p:nvPr/>
        </p:nvPicPr>
        <p:blipFill>
          <a:blip r:embed="rId1"/>
          <a:stretch/>
        </p:blipFill>
        <p:spPr>
          <a:xfrm>
            <a:off x="457200" y="1719360"/>
            <a:ext cx="8229600" cy="441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C:\Documents and Settings\jmalcolm\Local Settings\Temporary Internet Files\Content.IE5\KKIIKQ1H\MPj04423930000[1].jpg"/>
          <p:cNvPicPr/>
          <p:nvPr/>
        </p:nvPicPr>
        <p:blipFill>
          <a:blip r:embed="rId1"/>
          <a:stretch/>
        </p:blipFill>
        <p:spPr>
          <a:xfrm>
            <a:off x="-569880" y="247680"/>
            <a:ext cx="9856800" cy="6396120"/>
          </a:xfrm>
          <a:prstGeom prst="rect">
            <a:avLst/>
          </a:prstGeom>
          <a:ln w="0">
            <a:noFill/>
          </a:ln>
        </p:spPr>
      </p:pic>
      <p:sp>
        <p:nvSpPr>
          <p:cNvPr id="1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ffffff"/>
                </a:solidFill>
                <a:latin typeface="Arial"/>
              </a:rPr>
              <a:t>Part 2: Simpson’s diversity index</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anchor="t">
            <a:normAutofit fontScale="91000"/>
          </a:bodyPr>
          <a:p>
            <a:pPr marL="312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12120" indent="-31212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Arial"/>
              </a:rPr>
              <a:t>At the cemetery, collect 100 leaves</a:t>
            </a:r>
            <a:endParaRPr b="0" lang="en-US" sz="3000" spc="-1" strike="noStrike">
              <a:solidFill>
                <a:srgbClr val="000000"/>
              </a:solidFill>
              <a:latin typeface="Arial"/>
            </a:endParaRPr>
          </a:p>
          <a:p>
            <a:pPr marL="312120" indent="-31212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Arial"/>
              </a:rPr>
              <a:t>Sort them based on their species type</a:t>
            </a:r>
            <a:endParaRPr b="0" lang="en-US" sz="3000" spc="-1" strike="noStrike">
              <a:solidFill>
                <a:srgbClr val="000000"/>
              </a:solidFill>
              <a:latin typeface="Arial"/>
            </a:endParaRPr>
          </a:p>
          <a:p>
            <a:pPr marL="312120" indent="-31212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Arial"/>
              </a:rPr>
              <a:t>Count the number of each species</a:t>
            </a:r>
            <a:endParaRPr b="0" lang="en-US" sz="3000" spc="-1" strike="noStrike">
              <a:solidFill>
                <a:srgbClr val="000000"/>
              </a:solidFill>
              <a:latin typeface="Arial"/>
            </a:endParaRPr>
          </a:p>
          <a:p>
            <a:pPr marL="312120" indent="-31212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Arial"/>
              </a:rPr>
              <a:t>Calculate the diversity index for the cemetery (see handout)</a:t>
            </a:r>
            <a:endParaRPr b="0" lang="en-US" sz="3000" spc="-1" strike="noStrike">
              <a:solidFill>
                <a:srgbClr val="000000"/>
              </a:solidFill>
              <a:latin typeface="Arial"/>
            </a:endParaRPr>
          </a:p>
          <a:p>
            <a:pPr marL="312120" indent="-31212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Arial"/>
              </a:rPr>
              <a:t>Collect 100 leaves at another location and calculate the index</a:t>
            </a:r>
            <a:endParaRPr b="0" lang="en-US" sz="3000" spc="-1" strike="noStrike">
              <a:solidFill>
                <a:srgbClr val="000000"/>
              </a:solidFill>
              <a:latin typeface="Arial"/>
            </a:endParaRPr>
          </a:p>
          <a:p>
            <a:pPr marL="312120" indent="-31212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fffff"/>
                </a:solidFill>
                <a:latin typeface="Arial"/>
              </a:rPr>
              <a:t>Compare the 2 values. Which location is more divers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What is survivorship?</a:t>
            </a: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Describes the pattern of mortality and survival in a population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000" spc="-1" strike="noStrike">
                <a:solidFill>
                  <a:srgbClr val="000000"/>
                </a:solidFill>
                <a:latin typeface="Arial"/>
              </a:rPr>
              <a:t>The probability of newborn individuals of a cohort surviving to particular ag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Discuss with a partner</a:t>
            </a:r>
            <a:endParaRPr b="1" lang="en-US" sz="3900" spc="-1" strike="noStrike">
              <a:solidFill>
                <a:srgbClr val="330066"/>
              </a:solidFill>
              <a:latin typeface="Arial"/>
            </a:endParaRPr>
          </a:p>
        </p:txBody>
      </p:sp>
      <p:sp>
        <p:nvSpPr>
          <p:cNvPr id="1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What are the different types of survivorship curv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pic>
        <p:nvPicPr>
          <p:cNvPr id="163" name="Picture 4" descr="FG48_13a"/>
          <p:cNvPicPr/>
          <p:nvPr/>
        </p:nvPicPr>
        <p:blipFill>
          <a:blip r:embed="rId1">
            <a:lum contrast="6000"/>
          </a:blip>
          <a:stretch/>
        </p:blipFill>
        <p:spPr>
          <a:xfrm>
            <a:off x="0" y="-11160"/>
            <a:ext cx="9144000" cy="686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pic>
        <p:nvPicPr>
          <p:cNvPr id="165" name="Picture 4" descr=""/>
          <p:cNvPicPr/>
          <p:nvPr/>
        </p:nvPicPr>
        <p:blipFill>
          <a:blip r:embed="rId1"/>
          <a:stretch/>
        </p:blipFill>
        <p:spPr>
          <a:xfrm>
            <a:off x="0" y="2924280"/>
            <a:ext cx="9144000" cy="2477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Three types of Survivorship Curves -</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Arial"/>
              </a:rPr>
              <a:t>Type I </a:t>
            </a:r>
            <a:r>
              <a:rPr b="0" lang="en-CA" sz="1700" spc="-1" strike="noStrike">
                <a:solidFill>
                  <a:srgbClr val="000000"/>
                </a:solidFill>
                <a:latin typeface="Arial"/>
              </a:rPr>
              <a:t>survivorship curves are for species that have a high survival rate of the young, live out most of their expected life span and die in old age.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a:rPr>
              <a:t>Humans are a good example of a species with a Type I survivorship curve. </a:t>
            </a:r>
            <a:r>
              <a:rPr b="1" lang="en-CA" sz="1700" spc="-1" strike="noStrike">
                <a:solidFill>
                  <a:srgbClr val="000000"/>
                </a:solidFill>
                <a:latin typeface="Arial"/>
              </a:rPr>
              <a:t>Q: What is the catch?</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Arial"/>
              </a:rPr>
              <a:t>Type II</a:t>
            </a:r>
            <a:r>
              <a:rPr b="0" lang="en-CA" sz="1700" spc="-1" strike="noStrike">
                <a:solidFill>
                  <a:srgbClr val="000000"/>
                </a:solidFill>
                <a:latin typeface="Arial"/>
              </a:rPr>
              <a:t> survivorship curves are for species that have a relatively </a:t>
            </a:r>
            <a:r>
              <a:rPr b="0" i="1" lang="en-CA" sz="1700" spc="-1" strike="noStrike" u="sng">
                <a:solidFill>
                  <a:srgbClr val="000000"/>
                </a:solidFill>
                <a:uFillTx/>
                <a:latin typeface="Arial"/>
              </a:rPr>
              <a:t>constant death rate</a:t>
            </a:r>
            <a:r>
              <a:rPr b="0" lang="en-CA" sz="1700" spc="-1" strike="noStrike">
                <a:solidFill>
                  <a:srgbClr val="000000"/>
                </a:solidFill>
                <a:latin typeface="Arial"/>
              </a:rPr>
              <a:t> throughout their life span. Death could be due to hunting or diseases.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Arial"/>
              </a:rPr>
              <a:t>Examples of species exhibiting a Type II survivorship curve are coral, squirrels, honey bees and many reptiles.</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Arial"/>
              </a:rPr>
              <a:t>Type III</a:t>
            </a:r>
            <a:r>
              <a:rPr b="0" lang="en-CA" sz="1700" spc="-1" strike="noStrike">
                <a:solidFill>
                  <a:srgbClr val="000000"/>
                </a:solidFill>
                <a:latin typeface="Arial"/>
              </a:rPr>
              <a:t> survivorship curves are found in species that have many young, most of which die very early in their life. Plants, oysters and sea urchins are examples of species that have Type III survivorship curves.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Our data from St. James Cemetery</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Combine 100 birth and death da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Arial"/>
              </a:rPr>
              <a:t>Construct Survivorship Curve as per instructions in the Tiger Book</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Observing Survivorship Data using gravestones (100 min)</a:t>
            </a:r>
            <a:endParaRPr b="1" lang="en-US" sz="3900" spc="-1" strike="noStrike">
              <a:solidFill>
                <a:srgbClr val="330066"/>
              </a:solidFill>
              <a:latin typeface="Arial"/>
            </a:endParaRPr>
          </a:p>
        </p:txBody>
      </p:sp>
      <p:graphicFrame>
        <p:nvGraphicFramePr>
          <p:cNvPr id="171" name=""/>
          <p:cNvGraphicFramePr/>
          <p:nvPr/>
        </p:nvGraphicFramePr>
        <p:xfrm>
          <a:off x="457200" y="1719360"/>
          <a:ext cx="8229600" cy="2225520"/>
        </p:xfrm>
        <a:graphic>
          <a:graphicData uri="http://schemas.openxmlformats.org/drawingml/2006/table">
            <a:tbl>
              <a:tblPr/>
              <a:tblGrid>
                <a:gridCol w="2743200"/>
                <a:gridCol w="2743200"/>
                <a:gridCol w="274320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rth d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ath d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at De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8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8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Back at the lab- calculate survivorship (in this example n=22)</a:t>
            </a:r>
            <a:endParaRPr b="1" lang="en-US" sz="3200" spc="-1" strike="noStrike">
              <a:solidFill>
                <a:srgbClr val="330066"/>
              </a:solidFill>
              <a:latin typeface="Arial"/>
            </a:endParaRPr>
          </a:p>
        </p:txBody>
      </p:sp>
      <p:graphicFrame>
        <p:nvGraphicFramePr>
          <p:cNvPr id="173" name=""/>
          <p:cNvGraphicFramePr/>
          <p:nvPr/>
        </p:nvGraphicFramePr>
        <p:xfrm>
          <a:off x="457200" y="1719360"/>
          <a:ext cx="8229600" cy="2124000"/>
        </p:xfrm>
        <a:graphic>
          <a:graphicData uri="http://schemas.openxmlformats.org/drawingml/2006/table">
            <a:tbl>
              <a:tblPr/>
              <a:tblGrid>
                <a:gridCol w="2743200"/>
                <a:gridCol w="2743200"/>
                <a:gridCol w="274320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ge at death (y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of original group surviv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rvivorsh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cc00"/>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eccb"/>
                    </a:solid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r h="37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eccb"/>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f6e7"/>
                    </a:solidFill>
                  </a:tcPr>
                </a:tc>
              </a:tr>
            </a:tbl>
          </a:graphicData>
        </a:graphic>
      </p:graphicFrame>
      <p:sp>
        <p:nvSpPr>
          <p:cNvPr id="174" name="TextBox 4"/>
          <p:cNvSpPr/>
          <p:nvPr/>
        </p:nvSpPr>
        <p:spPr>
          <a:xfrm>
            <a:off x="214200" y="4429080"/>
            <a:ext cx="8501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ivorship = </a:t>
            </a:r>
            <a:r>
              <a:rPr b="0" lang="en-US" sz="2800" spc="-1" strike="noStrike" u="sng">
                <a:solidFill>
                  <a:srgbClr val="000000"/>
                </a:solidFill>
                <a:uFillTx/>
                <a:latin typeface="Arial"/>
              </a:rPr>
              <a:t>No. of original group  surviving  </a:t>
            </a:r>
            <a:r>
              <a:rPr b="0" lang="en-US" sz="2800" spc="-1" strike="noStrike">
                <a:solidFill>
                  <a:srgbClr val="000000"/>
                </a:solidFill>
                <a:latin typeface="Arial"/>
              </a:rPr>
              <a:t>*1000</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riginal number (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8T23:44:14Z</dcterms:created>
  <dc:creator>Kathy</dc:creator>
  <dc:description/>
  <dc:language>en-US</dc:language>
  <cp:lastModifiedBy>Branksome Hall</cp:lastModifiedBy>
  <dcterms:modified xsi:type="dcterms:W3CDTF">2009-10-01T18:59:15Z</dcterms:modified>
  <cp:revision>8</cp:revision>
  <dc:subject/>
  <dc:title>Survivorship Curves</dc:title>
</cp:coreProperties>
</file>